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2ECB-E2C3-47CB-855D-709B4125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570E-80CA-4065-A141-FBF63F1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ED30-44C8-4801-8634-4D989CF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A255-5798-45B2-81E0-A0862BA3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B2CA-D0B1-4E2F-9257-FED622D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91C-873C-4811-B9F0-DDBB5C2C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5705-D787-4755-8D56-3814A69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E85-FE59-47E8-B2DD-B899FF8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88E6-968E-4EFB-AF06-E150E71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1BFB-124B-454C-BF47-6176403E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9046-C3A0-40A9-93FC-6A52258B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02D4-1A4B-44FA-8424-453BF30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5B8-B521-4127-98B9-3828AB0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392-4D12-45BE-A95E-C21229A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BB96-4C97-4833-844A-F4109DFB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C2E-6A4C-4B96-93CC-F0DF9684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476-264C-483B-B594-F9399B14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15EE-DA05-4594-A822-E10A18DD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9296-C13B-4314-AAEC-696F2FDB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B9B4-EF88-4BCB-BCAB-D672EE06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66A8-F196-42DF-A4AF-BABF2A5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10C2-CE67-4355-8C5D-C9F190C0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5328-E20B-429C-8836-AE09CA3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5687-2F2F-40C8-851D-213B163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9C31-69DD-43EB-B5D5-B196CB3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E647-B8F6-42F4-9E19-7269729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D5A5-5F4C-4090-98C3-99E2344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C51A-87DE-43D2-B07C-EF373F3F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7679-36CE-4994-B37B-09A0DCD9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62A2-1CFB-428F-B8FD-FFB4E7C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CE22-4941-4521-AEF3-5D602855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BB9C-0AEC-4192-BA41-00123C0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5485-5AD0-4E9D-8160-19B96C83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A4B0-C39B-485A-BA69-632709E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8BFD-8816-4540-971B-F4380A4F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EEC2-5DB2-481A-830B-86E87A0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22D-A805-44AB-BE19-CD70FD7A9D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A1B-0447-4833-BFD8-31BE6B1E23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8B2-CFCF-4501-A8CE-F75D1A7F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uvrdub.ru/towns_herours.html" TargetMode="External"/><Relationship Id="rId2" Type="http://schemas.openxmlformats.org/officeDocument/2006/relationships/hyperlink" Target="http://www.publiclibrary.ru/readers/read/childread-obo-vsem-na-svete-o-voine-rasskazhet-kniga-goroda-gero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274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еликая       Отечественная Война     глазами сов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ки 4 курса             филологического факультета  КГ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ызьюровой Анастасии Андре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530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445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0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0  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Основополагающий вопрос нашего проекта: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34936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133720"/>
            <a:ext cx="53294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очем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зника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йны 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Проблемные вопросы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двиги, победы и поражен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орода-герои отличились своими подвигами в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следств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отношение современной молодёжи к ВОВ и её участника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Дидактические цели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событиями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 трагических последствиях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ценить великий вклад участников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Представление результатов исследован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товы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2371680" cy="1726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30508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0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Распределение по групп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765000"/>
          <a:ext cx="8229600" cy="6004080"/>
        </p:xfrm>
        <a:graphic>
          <a:graphicData uri="http://schemas.openxmlformats.org/drawingml/2006/table">
            <a:tbl>
              <a:tblPr/>
              <a:tblGrid>
                <a:gridCol w="1738440"/>
                <a:gridCol w="396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двиги , победы и поражен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города-герои отличились своими подвигами в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следств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о отношение молодёжи к ВОВ и ее участника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Этапы проведения проект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и формулирование тем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иск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амостоятельная работ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Информационные ресурсы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Истории для 10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chuvrdub.ru/towns_herour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publiclibrary.ru/readers/read/childread-obo-vsem-na-svete-o-voine-rasskazhet-kniga-goroda-geroi.ht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55Z</dcterms:created>
  <dc:creator>студент</dc:creator>
  <dc:description/>
  <dc:language>en-US</dc:language>
  <cp:lastModifiedBy>студент</cp:lastModifiedBy>
  <dcterms:modified xsi:type="dcterms:W3CDTF">2010-04-21T09:44:30Z</dcterms:modified>
  <cp:revision>16</cp:revision>
  <dc:subject/>
  <dc:title>Великая       Отечественная Война     глазами современности</dc:title>
</cp:coreProperties>
</file>